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9F-0DE1-4F62-B487-09CA02A3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F20-0E3F-4435-90C7-F3A10CB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E7F-CDCC-4E07-8C1F-98E38A7B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17D-7718-490A-B12E-96418FEF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CEBE-6F95-45FD-97EA-D851CCA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8CD9-0A30-407F-8AB5-E30115B8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B8F-7986-47F7-AF68-E86EA87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82E-A9E5-4C0B-9293-752BA2C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16A9-E613-475C-8587-DABA016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C99-5C20-4C16-B71F-09E88A0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CAD-8FC8-4077-90E6-25F93DF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BFD-BA59-43B3-A352-00003F8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9B1B-E8F5-4115-A7DE-2EF3AAC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CDBA-4551-4FE9-89B7-A3AF4255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2EEF-78E7-400F-A54C-34ADACD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5F19-5A51-4467-96B6-F347CA31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74A3-C179-44A3-9807-F0C5940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64A-2E09-4516-AB93-0DCDD5A6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BD1-1B20-47D9-84EB-82586CE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0C0-5B92-4D49-8C5C-5EACB9DF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271-CBBC-4F6B-82E8-E603C5E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AD8-115C-4593-8175-6801848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BF4-D7AE-457C-A2F8-23F8A05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AC5-2AEF-4B41-95D8-FD46F72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F9C-6947-45EE-98B8-3F11B8889C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AC9E-0AF2-407E-9A4B-9C8DB46B51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335e"/>
            </a:gs>
            <a:gs pos="100000">
              <a:srgbClr val="ff8a0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7a7"/>
                </a:solidFill>
                <a:latin typeface="Monotype Corsiva"/>
              </a:rPr>
              <a:t>Women’s Rights    Speeche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52120" y="3504960"/>
            <a:ext cx="67820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5"/>
                </a:solidFill>
                <a:latin typeface="Comic Sans MS"/>
              </a:rPr>
              <a:t>By: Veronica Plischke, Olivia Green,            Christina Hanlin and Evan Ri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09480" y="259092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e8e8e"/>
                    </a:gs>
                    <a:gs pos="100000">
                      <a:srgbClr val="edfee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 We've Been Great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e8e8e"/>
                  </a:gs>
                  <a:gs pos="100000">
                    <a:srgbClr val="edfee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bdf6"/>
            </a:gs>
            <a:gs pos="50000">
              <a:srgbClr val="82f2d7"/>
            </a:gs>
            <a:gs pos="100000">
              <a:srgbClr val="8abdf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2144f"/>
                </a:solidFill>
                <a:latin typeface="Comic Sans MS"/>
              </a:rPr>
              <a:t>Ain’t I A Woma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5d7d"/>
                </a:solidFill>
                <a:latin typeface="Comic Sans MS"/>
              </a:rPr>
              <a:t>              </a:t>
            </a:r>
            <a:r>
              <a:rPr b="0" lang="en-US" sz="3600" spc="-1" strike="noStrike">
                <a:solidFill>
                  <a:srgbClr val="f15d7d"/>
                </a:solidFill>
                <a:latin typeface="Comic Sans MS"/>
              </a:rPr>
              <a:t>By: Sojourner Tru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9c7"/>
            </a:gs>
            <a:gs pos="50000">
              <a:srgbClr val="f15d7d"/>
            </a:gs>
            <a:gs pos="100000">
              <a:srgbClr val="f9b9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ed73"/>
                </a:solidFill>
                <a:latin typeface="Comic Sans MS"/>
              </a:rPr>
              <a:t>Objective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at is “Ain’t I A Woman” ab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y is it important that she spoke mostly to wome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adfa8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fa8e"/>
                </a:solidFill>
                <a:latin typeface="Comic Sans MS"/>
              </a:rPr>
              <a:t>What other types of people could have been in the aud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is important about Sojourner Truth’s backgroun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is she talking abou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9b3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3bfb"/>
                </a:solidFill>
                <a:latin typeface="Comic Sans MS"/>
              </a:rPr>
              <a:t>What other issues are importan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bafe"/>
            </a:gs>
            <a:gs pos="50000">
              <a:srgbClr val="ad5efc"/>
            </a:gs>
            <a:gs pos="100000">
              <a:srgbClr val="dcba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a700"/>
                </a:solidFill>
                <a:latin typeface="Comic Sans MS"/>
              </a:rPr>
              <a:t>Rhetorical Devic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E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Pa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Lo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Allu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Rhetorical Ques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Anap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3b"/>
            </a:gs>
            <a:gs pos="100000">
              <a:srgbClr val="fff38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aaf3"/>
                </a:solidFill>
                <a:latin typeface="Comic Sans MS"/>
              </a:rPr>
              <a:t>After Being Convicted of Voting In the 1872 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7040" y="320040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cbf8"/>
                </a:solidFill>
                <a:latin typeface="Comic Sans MS"/>
              </a:rPr>
              <a:t>By: Susan B. Anthon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bjective Ques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this speech mainly ab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the main audience of the speech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is important about Susan B. Anthon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is it important that a woman gave this speech rather than a ma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she talking about in the speech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she prove her poin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7ffd"/>
            </a:gs>
            <a:gs pos="100000">
              <a:srgbClr val="ff6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fc4"/>
                </a:solidFill>
                <a:latin typeface="Comic Sans MS"/>
              </a:rPr>
              <a:t>Rhetorical Devic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14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Eth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Patho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Lo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Anapho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Polysynde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Repet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16:06Z</dcterms:created>
  <dc:creator>J Plischke</dc:creator>
  <dc:description/>
  <dc:language>en-US</dc:language>
  <cp:lastModifiedBy>J Plischke</cp:lastModifiedBy>
  <dcterms:modified xsi:type="dcterms:W3CDTF">2008-04-16T03:12:47Z</dcterms:modified>
  <cp:revision>7</cp:revision>
  <dc:subject/>
  <dc:title>Women’s Rights    Speeches</dc:title>
</cp:coreProperties>
</file>